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4566-9539-4154-A8EF-154C2D3F3C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831A-130D-4C36-83C5-556B552317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10E1-B481-4A1D-ABAB-E95F30BDF1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0E9B-21BE-4F3C-BC84-58F577A65A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C43A-97EE-406C-9BA6-2E0E13D17E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BFD7-16B9-4B82-B2E7-ECA6708991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CD10-6846-4593-8CA8-1370CB36A3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04A5-A26F-499E-BF0B-F28CEA2F64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6C61-6DB3-48EC-A168-BF584C61DE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8C3A-AB68-47B6-B554-7A1574316F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835C-EA5E-4ED7-8C2F-B7CF04C39C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69F-2583-4B8E-B323-707A6C1B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7FF-623E-43BF-A55C-C181A602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ABA-D6B2-4124-B760-1897F126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3C6-1A30-4085-BDDF-D091CEB5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C75-5A57-42B1-9268-CE3648CB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FAD-D0B4-4232-81C2-C0972969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807-0213-49A6-B050-974A6A5E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108-D105-434B-A3AB-5CA88C61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FFB-CD06-4011-AF7D-82E6CB36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055-B74A-480B-ABC0-194D46D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F83-C352-4619-8F91-545259B9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8C2-D637-400F-9EE1-4890328C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F458-609A-44EE-846D-2C63A34263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slide" Target="slide17.xml"/><Relationship Id="rId4" Type="http://schemas.openxmlformats.org/officeDocument/2006/relationships/image" Target="../media/image7.png"/><Relationship Id="rId5" Type="http://schemas.openxmlformats.org/officeDocument/2006/relationships/slide" Target="slide18.xml"/><Relationship Id="rId6" Type="http://schemas.openxmlformats.org/officeDocument/2006/relationships/image" Target="../media/image8.png"/><Relationship Id="rId7" Type="http://schemas.openxmlformats.org/officeDocument/2006/relationships/slide" Target="slide19.xml"/><Relationship Id="rId8" Type="http://schemas.openxmlformats.org/officeDocument/2006/relationships/image" Target="../media/image9.png"/><Relationship Id="rId9" Type="http://schemas.openxmlformats.org/officeDocument/2006/relationships/slide" Target="slide20.xm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6;&#1085;&#1072;&#1074;&#1090;" TargetMode="External"/><Relationship Id="rId2" Type="http://schemas.openxmlformats.org/officeDocument/2006/relationships/hyperlink" Target="http://www.online812.ru/2010/04/12/003/pda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2030760" y="500040"/>
            <a:ext cx="51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МСОУ школа № 10 </a:t>
            </a:r>
            <a:r>
              <a:rPr b="1" lang="en-US" sz="2000" spc="-1" strike="noStrike">
                <a:solidFill>
                  <a:srgbClr val="17375e"/>
                </a:solidFill>
                <a:latin typeface="Georgia"/>
              </a:rPr>
              <a:t>VIII</a:t>
            </a: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 ви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города Ступино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2"/>
          <p:cNvSpPr/>
          <p:nvPr/>
        </p:nvSpPr>
        <p:spPr>
          <a:xfrm>
            <a:off x="1285920" y="1857240"/>
            <a:ext cx="6643800" cy="2500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Викторина «Космическа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4000680" y="5214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асатина Татья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4"/>
          <p:cNvSpPr/>
          <p:nvPr/>
        </p:nvSpPr>
        <p:spPr>
          <a:xfrm>
            <a:off x="878760" y="928800"/>
            <a:ext cx="776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осмонавт, первый  соверши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ыход в открытый косм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ейл Армстр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алентина Тере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Алексей Ле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93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96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99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02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4"/>
          <p:cNvSpPr/>
          <p:nvPr/>
        </p:nvSpPr>
        <p:spPr>
          <a:xfrm>
            <a:off x="1398240" y="928800"/>
            <a:ext cx="682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полёт Юрия Гага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дл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0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08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 с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3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15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18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21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24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4"/>
          <p:cNvSpPr/>
          <p:nvPr/>
        </p:nvSpPr>
        <p:spPr>
          <a:xfrm>
            <a:off x="797400" y="107172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Самый  пожилой космонавт Джон Г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совершил свой полёт 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7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89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6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37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40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43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46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4"/>
          <p:cNvSpPr/>
          <p:nvPr/>
        </p:nvSpPr>
        <p:spPr>
          <a:xfrm>
            <a:off x="1676880" y="714240"/>
            <a:ext cx="60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алентина Терешк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а свой полё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на космическом корабл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Союз – 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8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59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62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65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68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Скругленный прямоугольник 2"/>
          <p:cNvSpPr/>
          <p:nvPr/>
        </p:nvSpPr>
        <p:spPr>
          <a:xfrm>
            <a:off x="1500120" y="1785960"/>
            <a:ext cx="64296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Фина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1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2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1"/>
          <p:cNvSpPr/>
          <p:nvPr/>
        </p:nvSpPr>
        <p:spPr>
          <a:xfrm>
            <a:off x="2643120" y="64296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6"/>
          <p:cNvSpPr/>
          <p:nvPr/>
        </p:nvSpPr>
        <p:spPr>
          <a:xfrm>
            <a:off x="2643120" y="164304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Филь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7"/>
          <p:cNvSpPr/>
          <p:nvPr/>
        </p:nvSpPr>
        <p:spPr>
          <a:xfrm>
            <a:off x="2643120" y="264312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рганизм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8"/>
          <p:cNvSpPr/>
          <p:nvPr/>
        </p:nvSpPr>
        <p:spPr>
          <a:xfrm>
            <a:off x="2643120" y="3643200"/>
            <a:ext cx="421488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емные 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9"/>
          <p:cNvSpPr/>
          <p:nvPr/>
        </p:nvSpPr>
        <p:spPr>
          <a:xfrm>
            <a:off x="2643120" y="4643280"/>
            <a:ext cx="421488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амый - са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Овал 10"/>
          <p:cNvGrpSpPr/>
          <p:nvPr/>
        </p:nvGrpSpPr>
        <p:grpSpPr>
          <a:xfrm>
            <a:off x="1494000" y="585720"/>
            <a:ext cx="938160" cy="919080"/>
            <a:chOff x="1494000" y="585720"/>
            <a:chExt cx="938160" cy="919080"/>
          </a:xfrm>
        </p:grpSpPr>
        <p:pic>
          <p:nvPicPr>
            <p:cNvPr id="283" name="Овал 10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494000" y="585720"/>
              <a:ext cx="93816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685880" y="75564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Овал 11"/>
          <p:cNvGrpSpPr/>
          <p:nvPr/>
        </p:nvGrpSpPr>
        <p:grpSpPr>
          <a:xfrm>
            <a:off x="1487520" y="1584360"/>
            <a:ext cx="944640" cy="920880"/>
            <a:chOff x="1487520" y="1584360"/>
            <a:chExt cx="944640" cy="920880"/>
          </a:xfrm>
        </p:grpSpPr>
        <p:pic>
          <p:nvPicPr>
            <p:cNvPr id="286" name="Овал 1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487520" y="1584360"/>
              <a:ext cx="94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685880" y="1755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Овал 12"/>
          <p:cNvGrpSpPr/>
          <p:nvPr/>
        </p:nvGrpSpPr>
        <p:grpSpPr>
          <a:xfrm>
            <a:off x="1487520" y="2584440"/>
            <a:ext cx="944640" cy="920880"/>
            <a:chOff x="1487520" y="2584440"/>
            <a:chExt cx="944640" cy="920880"/>
          </a:xfrm>
        </p:grpSpPr>
        <p:pic>
          <p:nvPicPr>
            <p:cNvPr id="289" name="Овал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487520" y="2584440"/>
              <a:ext cx="94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685880" y="275580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Овал 13"/>
          <p:cNvGrpSpPr/>
          <p:nvPr/>
        </p:nvGrpSpPr>
        <p:grpSpPr>
          <a:xfrm>
            <a:off x="1481040" y="3584520"/>
            <a:ext cx="957240" cy="920880"/>
            <a:chOff x="1481040" y="3584520"/>
            <a:chExt cx="957240" cy="920880"/>
          </a:xfrm>
        </p:grpSpPr>
        <p:pic>
          <p:nvPicPr>
            <p:cNvPr id="292" name="Овал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1481040" y="358452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685880" y="375588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Овал 14"/>
          <p:cNvGrpSpPr/>
          <p:nvPr/>
        </p:nvGrpSpPr>
        <p:grpSpPr>
          <a:xfrm>
            <a:off x="1494000" y="4657680"/>
            <a:ext cx="938160" cy="920880"/>
            <a:chOff x="1494000" y="4657680"/>
            <a:chExt cx="938160" cy="920880"/>
          </a:xfrm>
        </p:grpSpPr>
        <p:pic>
          <p:nvPicPr>
            <p:cNvPr id="295" name="Овал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494000" y="4657680"/>
              <a:ext cx="938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685880" y="482760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Прямоугольник 16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17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Georgia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428760" y="785880"/>
            <a:ext cx="300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ие животные первыми обле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окру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Лу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2643120" y="492912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Черепах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Группа 7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04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Picture 2" descr="F:\новинка\142.jpg"/>
          <p:cNvPicPr/>
          <p:nvPr/>
        </p:nvPicPr>
        <p:blipFill>
          <a:blip r:embed="rId2"/>
          <a:stretch/>
        </p:blipFill>
        <p:spPr>
          <a:xfrm>
            <a:off x="3514680" y="1000080"/>
            <a:ext cx="484812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299" dur="indefinite" restart="never" nodeType="tmRoot">
          <p:childTnLst>
            <p:seq>
              <p:cTn id="30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"/>
          <p:cNvSpPr/>
          <p:nvPr/>
        </p:nvSpPr>
        <p:spPr>
          <a:xfrm>
            <a:off x="500040" y="857160"/>
            <a:ext cx="4000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ой художественный фильм обязательно смотрят российские космонав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ед полё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"/>
          <p:cNvSpPr/>
          <p:nvPr/>
        </p:nvSpPr>
        <p:spPr>
          <a:xfrm>
            <a:off x="1442160" y="5143680"/>
            <a:ext cx="61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«Белое солнце пусты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Группа 5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11" name="Прямоугольник 6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Овал 7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Прямоугольник 8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F:\новинка\1239767510_1111.jpg"/>
          <p:cNvPicPr/>
          <p:nvPr/>
        </p:nvPicPr>
        <p:blipFill>
          <a:blip r:embed="rId2"/>
          <a:stretch/>
        </p:blipFill>
        <p:spPr>
          <a:xfrm>
            <a:off x="4572000" y="642960"/>
            <a:ext cx="371484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642960" y="71424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 космосе давление влияет на позвоночный столб человека. Что происход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 ростом космонав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1059480" y="500076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Рост немного увелич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19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8" descr="Интересные факты из жизни космонавтов"/>
          <p:cNvPicPr/>
          <p:nvPr/>
        </p:nvPicPr>
        <p:blipFill>
          <a:blip r:embed="rId2"/>
          <a:stretch/>
        </p:blipFill>
        <p:spPr>
          <a:xfrm>
            <a:off x="5357880" y="642960"/>
            <a:ext cx="3000240" cy="44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500040" y="571680"/>
            <a:ext cx="328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ие земные рукотворные объекты видны из косм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1564200" y="500076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Египетские пирам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27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F:\новинка\piramidi-di-giza-sulla-terra.jpg"/>
          <p:cNvPicPr/>
          <p:nvPr/>
        </p:nvPicPr>
        <p:blipFill>
          <a:blip r:embed="rId2"/>
          <a:srcRect l="1586" t="1980" r="1586" b="2780"/>
          <a:stretch/>
        </p:blipFill>
        <p:spPr>
          <a:xfrm>
            <a:off x="4071960" y="785880"/>
            <a:ext cx="435780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ый прямоугольник 2"/>
          <p:cNvSpPr/>
          <p:nvPr/>
        </p:nvSpPr>
        <p:spPr>
          <a:xfrm>
            <a:off x="2071800" y="1785960"/>
            <a:ext cx="50004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1 ту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"/>
          <p:cNvSpPr/>
          <p:nvPr/>
        </p:nvSpPr>
        <p:spPr>
          <a:xfrm>
            <a:off x="642960" y="785880"/>
            <a:ext cx="428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амый длинный полёт совершил Валерий Поляков. Сколько су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он длил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"/>
          <p:cNvSpPr/>
          <p:nvPr/>
        </p:nvSpPr>
        <p:spPr>
          <a:xfrm>
            <a:off x="3570480" y="4929120"/>
            <a:ext cx="24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438 су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35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8" descr="Интересные факты из жизни космонавтов"/>
          <p:cNvPicPr/>
          <p:nvPr/>
        </p:nvPicPr>
        <p:blipFill>
          <a:blip r:embed="rId2"/>
          <a:stretch/>
        </p:blipFill>
        <p:spPr>
          <a:xfrm>
            <a:off x="5000760" y="785880"/>
            <a:ext cx="3214440" cy="414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Скругленный прямоугольник 1"/>
          <p:cNvSpPr/>
          <p:nvPr/>
        </p:nvSpPr>
        <p:spPr>
          <a:xfrm>
            <a:off x="857160" y="1428840"/>
            <a:ext cx="757260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 Black"/>
              </a:rPr>
              <a:t>Поздравляем с победо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54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2"/>
          <p:cNvSpPr/>
          <p:nvPr/>
        </p:nvSpPr>
        <p:spPr>
          <a:xfrm>
            <a:off x="2000160" y="500040"/>
            <a:ext cx="542952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спользова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642960" y="1331280"/>
            <a:ext cx="7572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://ru.wikipedia.org/wiki/%D0%9A%D0%BE%D1%81%D0%BC%D0%BE%D0%BD%D0%B0%D0%B2%D1%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://www.online812.ru/2010/04/12/003/pda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www.liveinternet.ru/users/madonion2008/post121023581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epizodsspace.testpilot.ru/bibl/energia-50/14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altocasertano.files.wordpress.com/2010/04/piramidi-di-giza-sulla-terra.jpg?w=510&amp;h=4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kinogazeta.ru/uploads/posts/2009-04/1239767510_11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2055240" y="1000080"/>
            <a:ext cx="537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 полёт в косм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Герман Т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алентина Тере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ергей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59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62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65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68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795960" y="1000080"/>
            <a:ext cx="761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 звали собак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тали первопроходцами косм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ай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Ж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о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жер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Лёле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о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елка и Стр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81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84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87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90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866160" y="928800"/>
            <a:ext cx="75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колько раз, находясь на орб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можно наблюдать восх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6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Ни 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03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06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09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12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4"/>
          <p:cNvSpPr/>
          <p:nvPr/>
        </p:nvSpPr>
        <p:spPr>
          <a:xfrm>
            <a:off x="1392480" y="785880"/>
            <a:ext cx="624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амый молодой космонав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Герман Титов соверш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вой полёт 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8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3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25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28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31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34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4"/>
          <p:cNvSpPr/>
          <p:nvPr/>
        </p:nvSpPr>
        <p:spPr>
          <a:xfrm>
            <a:off x="951840" y="642960"/>
            <a:ext cx="720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колько женщин – космонав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насчит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 современном ми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47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50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53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56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2"/>
          <p:cNvSpPr/>
          <p:nvPr/>
        </p:nvSpPr>
        <p:spPr>
          <a:xfrm>
            <a:off x="2071800" y="1785960"/>
            <a:ext cx="50004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2 ту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4"/>
          <p:cNvSpPr/>
          <p:nvPr/>
        </p:nvSpPr>
        <p:spPr>
          <a:xfrm>
            <a:off x="792360" y="1000080"/>
            <a:ext cx="761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американский астронав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 свой пол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2 апр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 авгу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0 и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8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 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71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74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77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80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42:03Z</dcterms:created>
  <dc:creator>Admin</dc:creator>
  <dc:description/>
  <dc:language>en-US</dc:language>
  <cp:lastModifiedBy>Admin</cp:lastModifiedBy>
  <dcterms:modified xsi:type="dcterms:W3CDTF">2011-04-02T18:24:17Z</dcterms:modified>
  <cp:revision>34</cp:revision>
  <dc:subject/>
  <dc:title>Слайд 1</dc:title>
</cp:coreProperties>
</file>